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512-BADE-43D1-8FAD-D266A038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D4D-FC78-4C3D-9F91-7EFDD0A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C8E-D4E8-41AC-8438-FA592A3A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05C-109F-40A6-BF64-EFBE66C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700-86FC-4B55-9FFD-773982AB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67F3-450E-4ECD-9AF3-30E52A0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E56-B5DD-420C-9D2C-2F2511CA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699-E883-4FB0-B6B8-88F0635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FCB-2753-43EC-9292-4ED4420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E28-4D77-45B4-A5C9-78E49EDD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154-66B8-4DCC-92CD-31B166B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366-9E3B-41C9-B4F3-A2F67B3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328-CD32-43AE-9EFF-A55BC69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BCBB-6D99-40F9-AA87-601DD89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048E-0CFC-4616-8413-823FC40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2AD-DA29-468C-8426-88AD9B7D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F9F4-CF5B-464F-B70B-B0AEBEC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CE9-A823-4704-AAE0-031E37A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466-CF10-4041-8BBB-C5B98ED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B8-F1E1-4910-A2E5-692909E3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4EA-B498-4A32-B951-864E430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0C1-322E-418C-BE99-7A87003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E8D-E4A3-4768-A7B4-0276B7A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5DA-AE49-4251-BE7C-59246923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BD1-9290-4B98-899D-6EC3430AC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4B81-BCB5-434D-8557-ACC055FF9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intStroke"/>
              </a:rPr>
              <a:t>Public 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Your speech topic should b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Personal and connected to you.  You are the expert on this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Researchable (articles, interviews, personal opinion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nteresti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nteresting to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Simple…you only have 4 minu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Your speech topic shoul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have two sides.  A great way to convince others of your opinion is to compare it to an opposing opinion and dispute it…just don’t over do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Brainstorm a collection of possible topics.  Personal experience, interests, and strong opinions can all be developed into a great topic!  Get as many as possible.  Ask for help if you get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Choose at least two topics you think might work.  Write each topic on a sheet of loose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n each sheet, make pt. form notes to 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What do I know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What do I want to know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es this topic fit the criteria in slides 10-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Take a few minutes away from your ideas.  When you come back, which topic seems more interesting and engaging?  Which are you more interested in becoming an expert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If this is a problem…ask a friend or teacher for their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ave fun…spending the time picking a great topic now, will make things easie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Aaaah…I hate this.  Why do we have to do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At some point, everybody will need to speak to an audience (interviews, meeting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The ability to speak in public is ranked as a </a:t>
            </a:r>
            <a:r>
              <a:rPr b="0" i="1" lang="en-US" sz="3200" spc="-1" strike="noStrike">
                <a:solidFill>
                  <a:srgbClr val="000000"/>
                </a:solidFill>
                <a:latin typeface="PaintStroke"/>
              </a:rPr>
              <a:t>MUST HAVE 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skill by most employers.</a:t>
            </a:r>
            <a:r>
              <a:rPr b="0" i="1" lang="en-US" sz="3200" spc="-1" strike="noStrike">
                <a:solidFill>
                  <a:srgbClr val="000000"/>
                </a:solidFill>
                <a:latin typeface="PaintStrok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Aaaah…I hate this.  Why do we have to do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Practice in public speaking will help you express yourself in any situation where you need to be convincing (working groups, getting out of trouble with par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Grade 8 Speeches…so much more mature.  So much more pers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Grade 8 speeches need to have a personal opinion.  They are not simply a research paper read to an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ur speeches this year will present a </a:t>
            </a:r>
            <a:r>
              <a:rPr b="1" lang="en-US" sz="3200" spc="-1" strike="noStrike">
                <a:solidFill>
                  <a:srgbClr val="000000"/>
                </a:solidFill>
                <a:latin typeface="PaintStroke"/>
              </a:rPr>
              <a:t>persuasive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Grade 8 Speeches…so much more mature.  So much more pers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Grade 8 speeches need to be a minute longer (3-4).  This will not be a problem…tru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become the EXPERT on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research a topic to convincingly pres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intStroke"/>
              </a:rPr>
              <a:t>your 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organize your writing to best present your opinion to a group (not as clear-cut as it see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use body language to convey your opinion (80% of communication is non-verb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What to do when you’re nervous, confused, lost, nauseous, stammering, etc.  (It’s never as bad as you thin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hoosing your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Choosing a great topic is a CRUCIAL step in having a successful grade 8 speech.  Take the time to do it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0:12:47Z</dcterms:created>
  <dc:creator>Administrator</dc:creator>
  <dc:description/>
  <cp:keywords/>
  <dc:language>en-US</dc:language>
  <cp:lastModifiedBy>nbdoe</cp:lastModifiedBy>
  <dcterms:modified xsi:type="dcterms:W3CDTF">2007-03-02T22:58:27Z</dcterms:modified>
  <cp:revision>12</cp:revision>
  <dc:subject/>
  <dc:title>Public Spea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33</vt:lpwstr>
  </property>
</Properties>
</file>